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9FFF-831A-4D87-B6C5-A54FC2212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0224-BEF5-49DA-B53F-00466DD72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D034-E7C3-4C60-80AD-E1B5F193D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895E-F5A1-4786-8272-EC18D327D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65EB-0EFB-451B-B003-ACDFFC1A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1B3F-0EAC-4019-8C48-30812B142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5A20-185D-4B23-BA78-0F5EDDDE5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995E-6B40-4200-9A26-65E1F1963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F632-3962-4856-9FC7-6B284C9BA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9623-68A5-42C1-B301-3B3DD4B7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2EF6-75A3-4806-B377-9DFED3D0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2CF2-E9BB-4BE9-8A67-A45D2A3B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644B3-556A-4F92-9399-9294AA726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195640" y="1197000"/>
            <a:ext cx="482436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NJOY!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00000" y="981000"/>
            <a:ext cx="7488360" cy="5040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777080" cy="5472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763640" y="692280"/>
            <a:ext cx="5977080" cy="5329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16000" y="692280"/>
            <a:ext cx="6985080" cy="4952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16000" y="836640"/>
            <a:ext cx="7056360" cy="5113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332000" y="981000"/>
            <a:ext cx="6769080" cy="4753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20:43:50Z</dcterms:created>
  <dc:creator>Educating NZ</dc:creator>
  <dc:description/>
  <dc:language>en-US</dc:language>
  <cp:lastModifiedBy>Educating NZ</cp:lastModifiedBy>
  <dcterms:modified xsi:type="dcterms:W3CDTF">2007-04-26T06:49:17Z</dcterms:modified>
  <cp:revision>3</cp:revision>
  <dc:subject/>
  <dc:title>Slide 1</dc:title>
</cp:coreProperties>
</file>